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4624D-D98F-48D6-A555-CA7BB7440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449B4-6602-4231-89F6-82FAB351A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B8DB2-D612-4359-B2B8-F920ACBAC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4651C-142D-4678-9290-C73130B81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CB0E7-4644-4694-9C1B-48313C22A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C22C6-6B80-41BF-9178-AD7A175A3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4AB0E-FD2A-4458-A816-CB2E321BC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63EAD-C0B7-4732-A4DB-0E7695D57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88E0F-0567-4EB6-B131-EDA09B57F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D4287-C7F5-48F9-984D-BE7E43770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BE569-66AA-41DB-BCEE-A7905A9E2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48017-659C-4167-8BEA-14EEE0685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BA1FB-936F-4B41-9E3A-05920333F2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Compte-rendu de réun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609480"/>
            <a:ext cx="5105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Projet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105520" y="609480"/>
            <a:ext cx="17524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Date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295280"/>
            <a:ext cx="6858000" cy="1676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Réunion</a:t>
            </a: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Participants</a:t>
            </a: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Excusés :</a:t>
            </a: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2971800"/>
            <a:ext cx="6858000" cy="1676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Ordre du jour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8305920"/>
            <a:ext cx="685800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Prochaine réunion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4648320"/>
            <a:ext cx="6858000" cy="3657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Résumé des points traités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9T11:02:41Z</dcterms:created>
  <dc:creator>MADERS</dc:creator>
  <dc:description/>
  <dc:language>en-US</dc:language>
  <cp:lastModifiedBy>MADERS</cp:lastModifiedBy>
  <dcterms:modified xsi:type="dcterms:W3CDTF">2002-03-09T10:37:52Z</dcterms:modified>
  <cp:revision>10</cp:revision>
  <dc:subject/>
  <dc:title>Présentation PowerPoint</dc:title>
</cp:coreProperties>
</file>